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390-A902-41EF-80F5-9285D76B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AA3-6E70-402D-A078-EFA47DB5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D31-10C6-43BC-B5AA-D397BB5D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9D9-A1CA-43B1-8894-5A47E181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D9E-13CB-4630-A8D5-19E46EC1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9EC-2784-47C3-BB04-86E39F5B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EA5-6641-43D4-9E0F-2DC3605E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924-C9CB-4890-8EF8-21C6D26D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193-05D6-4BB0-A723-702DCF07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C4A-AAA1-48FB-B5C9-3FBA63DA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667-42E9-4F0B-9E86-23110EC6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468-7CDE-4DAF-A465-014B3B6B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AC9F-8952-4DCF-B601-0395AEC28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4:39:16Z</dcterms:created>
  <dc:creator>Partners Information Systems</dc:creator>
  <dc:description/>
  <dc:language>en-US</dc:language>
  <cp:lastModifiedBy>Partners Information Systems</cp:lastModifiedBy>
  <dcterms:modified xsi:type="dcterms:W3CDTF">2008-04-29T14:39:38Z</dcterms:modified>
  <cp:revision>1</cp:revision>
  <dc:subject/>
  <dc:title>Slide 1</dc:title>
</cp:coreProperties>
</file>